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3EB-A9B2-4246-8E6A-16CA5324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0A5-9E4F-416E-8C01-AB0FF63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1A2-A04E-4AD4-B2FB-30E110F1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20E-9005-4DCD-A6F4-D868A59A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66D5-23D2-4D23-871E-02E8F334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8F33B-2A97-4DA3-96EF-388DA703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5EDD3-461E-445B-8E3D-5645460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BAC49-710F-45D4-A4F5-6C0231A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D5F82-7C30-4011-8161-EB9B0837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EC2F1-8FD7-47D3-8AC8-00B59B40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2C5D-EF90-4D7D-8AC8-2F1C2868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5CF-CD98-48BC-89CF-F107800B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F9CF2-E759-45B3-983A-FAE08B1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36FA-35B7-40AD-91C5-F70F702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67DAB-D328-422C-9ED4-E4F6C3F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93486-93F1-481F-8B8D-97EDB6CA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03C96-E7EB-4BF8-8B93-1AA9BBF4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A78-5BF6-4428-B125-7AD7F5C3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0E4-7CEE-4670-AD87-2A376D59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D9C-D192-4851-9F04-E6C46C3F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FBB-86CF-417D-84EF-A63164B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42C-7D13-4844-9D19-31F12893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B0B-CF1A-49D7-B59D-2D1C804E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B17-3905-4736-BF1A-FB59A6C3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F67-4FDE-4214-9F6C-C3BD886486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AFAF-A3D2-42AF-95FE-0797C3673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Florante and Laur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luaga, Fatima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ella, Grover John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1852560" cy="2523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190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read Florante and Laura and relate it to contemporary life. They research a problem from the play that is still an issue today and collaborate to find a solution. They create a publication or presentation about their solution and share it with an audience. They will also create their own ending of the chosen situation in the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FQ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ential Questi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to love and be lov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different situations in the story that value relationshi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overcome these situations in the story that value relationshi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 Question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apply the things we learned in the story to our personal life experiences like involving conflicts in a relationship towards family, friends, and special someo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Vision for Un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reating this unit, I wan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out new methods to make classic literature relevant to my students’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of ways to involve my students more in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is unit, I want my student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 ways to connect literature to their daily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echnology to communicate with different aud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and appreciate the study of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y students work on this project, 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 the story to the re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 peers and community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21</a:t>
            </a:r>
            <a:r>
              <a:rPr b="1" lang="en-US" sz="4400" spc="-1" strike="noStrike" baseline="30000">
                <a:solidFill>
                  <a:srgbClr val="e3e3ff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Century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develop higher-order and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skills in this unit as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33676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Essential and Unit Questions to guide their analysis of the play to find themes that cross places and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e their ideas to a community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auging Student Needs Assessm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693396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s to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’ ideas about what a literatur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kground knowledge of characters and plot of 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 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entury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ee common elements in classic and contemporary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772400" y="1447920"/>
          <a:ext cx="914400" cy="79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44792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04920" y="1486080"/>
          <a:ext cx="914400" cy="79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8608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auging Student Needs Assessm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4479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3623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 on the elements of the story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9783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876920"/>
            <a:ext cx="70102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are their questions to those in previous un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t goals for how they will adjust their reading style for this kind of liter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quests for 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ways to help students understand the play without paraphrasing and summarizing it fo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help assessing students’ higher-order thinking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nave1386</cp:lastModifiedBy>
  <dcterms:modified xsi:type="dcterms:W3CDTF">2010-09-20T09:40:07Z</dcterms:modified>
  <cp:revision>30</cp:revision>
  <dc:subject/>
  <dc:title>What can Romeo and Juliet Teach Us About Ourselves?</dc:title>
</cp:coreProperties>
</file>